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1B6-277A-4201-BC72-A59265D0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0C5-0227-4431-8236-DFBD3DD5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99E-9366-4B35-B3C4-41B2B31A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50F-8705-4D30-8326-49B08C76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21D-D982-4BC8-8231-2DBA180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F5E3-EA63-4840-8E45-CEA53F7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90A-D9A4-4D70-9BFD-24219BE4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6530-825B-47B7-AC11-6F1D9FD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6D5-4FBA-48AB-8F9E-FCD60EB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B44B-77D4-4165-81EA-C849D71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D14A-E8D8-4A9F-9211-EE6EFD7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9F2-0522-4831-981D-8A2D61F8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94CE-7B29-4937-B9DC-C5ED4CB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C82B-5585-4321-A571-AAE4AF6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A966-24C8-4361-B952-DB6137D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E1D-8A8B-44A7-8C2C-F560813B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0B5F-A458-477C-803C-9E754823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150-B000-4E4A-9874-7A14196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4B5-5131-4C17-B82A-FB99B44F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B26-9DE6-438D-9A34-AB0B4C63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E3B-93B4-45A2-BBD7-BF754510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D5C-F89C-4E02-B0C0-7752941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AD6-56A3-4B34-96A1-04CFDFD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5F5-DCED-4C71-A31A-47D26FE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7669-B6A0-48E3-81DB-75A741EE8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554F-3413-454B-8FD2-702E51C59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icles.latimes.com/2011/aug/19/business/la-fiw-global-markets-20110820" TargetMode="External"/><Relationship Id="rId2" Type="http://schemas.openxmlformats.org/officeDocument/2006/relationships/hyperlink" Target="http://berlinstockmarket.com/" TargetMode="External"/><Relationship Id="rId3" Type="http://schemas.openxmlformats.org/officeDocument/2006/relationships/hyperlink" Target="http://www.germanstockexchange.net/category/stocks/" TargetMode="External"/><Relationship Id="rId4" Type="http://schemas.openxmlformats.org/officeDocument/2006/relationships/hyperlink" Target="http://germanstockexchange.info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Stock Prices and Exchang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Issu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bsites Us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articles.latimes.com/2011/aug/19/business/la-fiw-global-markets-201108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berlinstockmarke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germanstockexchange.net/category/stock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germanstockexchange.inf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economywatch.com/stockexchanges/germa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loomberg.com/news/2012-03-26/european-stock-futures-littlee-changed-before-ifo-reportt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lture Phot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009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an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ire German Stock Exchange consists of eight stock exchanges situated in different parts of the count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f these Stock Exchanges are enormously potent and significant to the world econom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the largest in Europe, the German economy is a close third behind those of the US &amp; Jap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many ranks among the wealthiest of na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77120" y="5189400"/>
            <a:ext cx="2666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erman Stock Exchange in Berli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ck Exchange in Berl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Börse Berlin Stock Exchange located in Berlin, Germany has secondary stock listings for over 6,000 US secu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ost of them are normally listed on the NYSE, NASDAQ, AMEX, OTCBB, and pink sheet marke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 September 2007 Börse Berlin AG, operator of one of Germanys oldest stock exchanges, acquired control over London based Equiduct Systems in order to offer new state-of-the art stock exchange services to financial institutions trading in the European marke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ankfurt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1818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furt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nkfurt stock market is Germany's leading stock exchange, serving over 90% of the German marke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the 300 market participants in the Frankfurt stock market, nearly 50% of these are from foreign count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nkfurt stock market is part of the Deutsche Borse and is one of the world's first stock exchang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stocks trade-plac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furt stock mar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hird largest exchange in the worl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an Stock Price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rman Stock Exchange has been doing extremely well over the past few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has earned Germany a position as one of the most wealthy countries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’s data “shows welcome signs of resilience in the Germany economy, which comes as reassuring news” said Marco Valli, chief eurozone economist at UniCredit SpA in Mi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age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) What percentage of the German Market does the Frankfurt Stock Exchange ser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) 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)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) 5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) How many market participants are there at the Frankfurt Stock Ex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) 4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) 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) Some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twor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7:39:22Z</dcterms:created>
  <dc:creator>SCSadmin</dc:creator>
  <dc:description/>
  <dc:language>en-US</dc:language>
  <cp:lastModifiedBy>SCSadmin</cp:lastModifiedBy>
  <dcterms:modified xsi:type="dcterms:W3CDTF">2012-04-04T17:33:40Z</dcterms:modified>
  <cp:revision>11</cp:revision>
  <dc:subject/>
  <dc:title>German Stock Prices Economic Issues</dc:title>
</cp:coreProperties>
</file>